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0FD2-9447-4ED8-8F37-B324B3620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28E5-C0D6-4A6C-BF0D-F1763AD6B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3A4E-32C3-419B-AD2F-AA5178DA2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5840" y="4355640"/>
            <a:ext cx="5026320" cy="41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ere is an example of the Entity Relationship diagramm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Img"/>
          </p:nvPr>
        </p:nvSpPr>
        <p:spPr>
          <a:xfrm>
            <a:off x="1292400" y="792000"/>
            <a:ext cx="4273200" cy="3205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Red Bar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Small Red Square"/>
          <p:cNvPicPr/>
          <p:nvPr/>
        </p:nvPicPr>
        <p:blipFill>
          <a:blip r:embed="rId3"/>
          <a:stretch/>
        </p:blipFill>
        <p:spPr>
          <a:xfrm>
            <a:off x="0" y="0"/>
            <a:ext cx="68904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1"/>
          <p:cNvSpPr/>
          <p:nvPr/>
        </p:nvSpPr>
        <p:spPr>
          <a:xfrm>
            <a:off x="914400" y="914400"/>
            <a:ext cx="2824200" cy="282420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Insert Picture Her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4" descr="Tall Red"/>
          <p:cNvPicPr/>
          <p:nvPr/>
        </p:nvPicPr>
        <p:blipFill>
          <a:blip r:embed="rId2"/>
          <a:stretch/>
        </p:blipFill>
        <p:spPr>
          <a:xfrm>
            <a:off x="0" y="914400"/>
            <a:ext cx="914400" cy="2822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5" descr="Wide Red"/>
          <p:cNvPicPr/>
          <p:nvPr/>
        </p:nvPicPr>
        <p:blipFill>
          <a:blip r:embed="rId3"/>
          <a:stretch/>
        </p:blipFill>
        <p:spPr>
          <a:xfrm>
            <a:off x="3736800" y="914400"/>
            <a:ext cx="5407200" cy="2822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0" descr="_x0014_Oracle_Logo_485C.jpg                                           00104BF0_x000c_Macintosh HD                   BE05FFEF:"/>
          <p:cNvPicPr/>
          <p:nvPr/>
        </p:nvPicPr>
        <p:blipFill>
          <a:blip r:embed="rId4"/>
          <a:stretch/>
        </p:blipFill>
        <p:spPr>
          <a:xfrm>
            <a:off x="901800" y="4338720"/>
            <a:ext cx="2925720" cy="366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5" descr="Red Bar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Small Red Square"/>
          <p:cNvPicPr/>
          <p:nvPr/>
        </p:nvPicPr>
        <p:blipFill>
          <a:blip r:embed="rId3"/>
          <a:stretch/>
        </p:blipFill>
        <p:spPr>
          <a:xfrm>
            <a:off x="0" y="0"/>
            <a:ext cx="68904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4320" y="3276360"/>
            <a:ext cx="7772400" cy="23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главы ИТ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1  "Информационные системы на основе баз данных"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95240" y="5895720"/>
            <a:ext cx="64008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к Ривки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итут ИБС НИТУ "МИСиС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2724120" y="628560"/>
            <a:ext cx="3735360" cy="217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88480" y="15192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ы для лабораторно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063800" y="1266840"/>
            <a:ext cx="730224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4880" y="161640"/>
            <a:ext cx="75816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ции реляционной алгеб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214280" y="1390680"/>
            <a:ext cx="621360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2190600"/>
            <a:ext cx="8143920" cy="36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15640" indent="-215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влекаемые коло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640" indent="-215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аких таб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640" indent="-215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640" indent="-215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departa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640" indent="-215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epartment_id, Location_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departa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640" indent="-215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last_name, salary,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alary+3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employe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640" indent="-215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last_nam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s 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alary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ary+300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as new_s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employees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m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5640" indent="-215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DISTIN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partment_id from Depar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8480" y="142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рукция оператора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95400" y="952560"/>
            <a:ext cx="9048600" cy="1085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440" y="1114560"/>
            <a:ext cx="81630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L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[ribe]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нужных строк – конструкци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* from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WHERE department_id =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AND last_name = ‘Whalen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бинация условий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, O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job_id </a:t>
            </a:r>
            <a:r>
              <a:rPr b="0" lang="en-GB" sz="2000" spc="-1" strike="noStrike">
                <a:solidFill>
                  <a:srgbClr val="fc0000"/>
                </a:solidFill>
                <a:latin typeface="Arial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(‘IT_PROG, ‘ST_CLE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8480" y="152280"/>
            <a:ext cx="7581960" cy="7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ы для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855800" y="1504800"/>
            <a:ext cx="483552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23600" y="1323720"/>
            <a:ext cx="795348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97280" indent="-197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alary 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beetwe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500 and 3500 and manager_id 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100, 101, 102) and first_name 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lik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S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%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280" indent="-197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%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 любых знаков,  </a:t>
            </a:r>
            <a:r>
              <a:rPr b="0" lang="ru-RU" sz="2400" spc="-1" strike="noStrike">
                <a:solidFill>
                  <a:srgbClr val="fc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один знак  (-о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280" indent="-197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manager_id </a:t>
            </a:r>
            <a:r>
              <a:rPr b="0" lang="en-US" sz="2400" spc="-1" strike="noStrike">
                <a:solidFill>
                  <a:srgbClr val="fc0000"/>
                </a:solidFill>
                <a:latin typeface="Arial"/>
              </a:rPr>
              <a:t>is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280" indent="-197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операций – ско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280" indent="-197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280" indent="-197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R BY col [DES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280" indent="-19728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720" indent="-19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DER BY hire_date, sala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280" indent="-197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5720" indent="-19872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employee_id = &amp;emp_num or name=‘&amp;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720" indent="-19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DER BY &amp;sort_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720" indent="-19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280" indent="-197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280" indent="-197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7560" y="12348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440" y="961920"/>
            <a:ext cx="79246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есь работать 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QL Wor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 все строки таблицы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-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4 ошибки в опера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employee_id, last_na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 x 12 ANNUAL SALAR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employe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 структур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desc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анные таблицы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 кадров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HR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чет посмотре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name, job code, hire dat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ploye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сотрудника. Он хочет назвать колон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_D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н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чет посмотреть все уникальные коды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_I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таблицы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9120" y="114480"/>
            <a:ext cx="7581960" cy="94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440" y="961920"/>
            <a:ext cx="79246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еть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t_nam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тудников, с зарплатой более 12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же с зарплатой в диапазоне 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$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ите уникальные имена сотрудников из табл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ees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ортированные по убы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ит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t_nam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сотрудник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 третья буква фамилии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ортируйте их фам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9120" y="114480"/>
            <a:ext cx="7581960" cy="94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88480" y="0"/>
            <a:ext cx="75819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43040" y="695160"/>
            <a:ext cx="7715160" cy="1771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123840" y="2514600"/>
            <a:ext cx="888696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95320" y="860400"/>
            <a:ext cx="7537320" cy="1479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123840" y="2924280"/>
            <a:ext cx="8896320" cy="24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04560" y="1599840"/>
            <a:ext cx="791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901"/>
              </a:spcBef>
              <a:buClr>
                <a:srgbClr val="f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инар 1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олляция ПО, создание и изучение БД, модел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SYSD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employee_id, CONCAT(first_name, last_name) FROM employees WHERE SUBSTR (job_id,4) = ‘REP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_CHAR, TO_NUMBER, TO_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VL (expr1, expr2) 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и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VL2 (expr1, expr2, expr3) 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и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н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LLIF(expr1, expr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е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авны, если нет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ALESCE (expr1, expr2, … ,expr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ненулевое значение в спи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ODE (col, search1, res1, seach2, res 2, ….,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ECODE(job_id, ‘IT_PROG’, 1.1*salar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6960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_CLERK’, 1.2*salary, sal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-2224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66360" y="131400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 текущую д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елает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last_name, salary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CODE (TRUNC(salary/2000, 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, 0.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, 0.09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, 0.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, 0.3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, 0.4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 0.4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, 0.4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.45) TAX_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OM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221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ERE department_id = 8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грайте с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8480" y="-3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99600" y="694800"/>
            <a:ext cx="853452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06640" indent="-206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ов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8400" indent="-207720">
              <a:spcBef>
                <a:spcPts val="3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ре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G(sal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8400" indent="-207720">
              <a:spcBef>
                <a:spcPts val="3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) – кол-во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OUNT(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8400" indent="-207720">
              <a:spcBef>
                <a:spcPts val="3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8400" indent="-207720">
              <a:spcBef>
                <a:spcPts val="3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8400" indent="-207720">
              <a:spcBef>
                <a:spcPts val="3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DDEV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ндартное откло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8400" indent="-207720">
              <a:spcBef>
                <a:spcPts val="3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) – сумм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8400" indent="-207720">
              <a:spcBef>
                <a:spcPts val="3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8400" indent="-207720">
              <a:spcBef>
                <a:spcPts val="3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сей таблице  или по группе записе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GROUP 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departament_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(salary) FROM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department_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departament_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 job_i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(salary) FROM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en-GB" sz="2400" spc="-1" strike="noStrike">
                <a:solidFill>
                  <a:srgbClr val="fc0000"/>
                </a:solidFill>
                <a:latin typeface="Arial"/>
              </a:rPr>
              <a:t>department_id, job_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7560" y="0"/>
            <a:ext cx="758196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иров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76240" y="161640"/>
            <a:ext cx="75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marL="170280" indent="-170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ужно ограничить группы, вместо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 [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column,] group_function(column)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[WHER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condi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[GROUP BY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colum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[HAVING group condi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[ORDER BY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column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 department_id, MAX(salary)  FROM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OUP BY department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VING MAX(salary)&gt;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job_id, SUM(salary) FROM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job_id NOT LIKE '%REP%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UP BY job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VING SUM(salary) &gt; 1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DER BY SUM(sala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макс, мин, среднюю и суммарную зарплату дл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а таблицы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ит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r_i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рплату наименее оплачиваемого сотрудника этого менеджера, исключите всех, у кого нет менеджера, исключите группы, где мин зарпла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0$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ниже, сортируйте результат по убыванию мин зар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666720" y="1111320"/>
            <a:ext cx="7537320" cy="417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LECT e.employee_id, e.last_name, e.department_i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.department_id, d.location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employees </a:t>
            </a:r>
            <a:r>
              <a:rPr b="1" lang="en-US" sz="2000" spc="-1" strike="noStrike">
                <a:solidFill>
                  <a:srgbClr val="fc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artments </a:t>
            </a:r>
            <a:r>
              <a:rPr b="1" lang="en-US" sz="2000" spc="-1" strike="noStrike">
                <a:solidFill>
                  <a:srgbClr val="f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000"/>
                </a:solidFill>
                <a:latin typeface="Arial"/>
              </a:rPr>
              <a:t>WHERE (e.department_id = d.department_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ж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LECT e.employee_id, e.last_name, e.department_i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.department_id, d.location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employees e JOIN department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(e.department_id = d.department_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ee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быть отделы, которых нет в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ament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оборот, могут быть отделы без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nner join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 не пока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 возвращает результаты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er join  +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павшие строки левой таблицы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ft outer 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outer join, FULL outer 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LECT e.last_name, e.department_id, d.departmen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employees e </a:t>
            </a:r>
            <a:r>
              <a:rPr b="1" lang="en-US" sz="2000" spc="-1" strike="noStrike">
                <a:solidFill>
                  <a:srgbClr val="fc0000"/>
                </a:solidFill>
                <a:latin typeface="Arial"/>
              </a:rPr>
              <a:t>LEFT OUTER JO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artment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(e.department_id = d.department_id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520" y="1599840"/>
            <a:ext cx="832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last_name, salar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OM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salary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000"/>
                </a:solidFill>
                <a:latin typeface="Arial"/>
              </a:rPr>
              <a:t>(SELECT salary</a:t>
            </a:r>
            <a:r>
              <a:rPr b="1" lang="ru-RU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0000"/>
                </a:solidFill>
                <a:latin typeface="Arial"/>
              </a:rPr>
              <a:t>FROM employees</a:t>
            </a:r>
            <a:r>
              <a:rPr b="1" lang="ru-RU" sz="20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0000"/>
                </a:solidFill>
                <a:latin typeface="Arial"/>
              </a:rPr>
              <a:t>WHERE last_name = 'Abel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, ALL, A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запрос возвр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employee_id, last_name, job_id, salary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RE salary &lt; </a:t>
            </a:r>
            <a:r>
              <a:rPr b="1" lang="en-GB" sz="2000" spc="-1" strike="noStrike">
                <a:solidFill>
                  <a:srgbClr val="fc0000"/>
                </a:solidFill>
                <a:latin typeface="Arial"/>
              </a:rPr>
              <a:t>ANY (SELECT salary FROM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000"/>
                </a:solidFill>
                <a:latin typeface="Arial"/>
              </a:rPr>
              <a:t>WHERE job_id = 'IT_PROG')  AND job_id &lt;&gt; 'IT_PROG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запро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7560" y="13284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рование информационных модел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76080" y="1352160"/>
            <a:ext cx="753732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10960" indent="-2109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туальня модель предмет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1240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оуровневая, можно без атрибутов, без привязки к типу (реляц, сетевая и т 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1240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ности, связи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, но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 модель 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1240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о атрибу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1240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язка к типу модел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1240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ь многие ко мног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1240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привязки к физической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модель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1240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ретная СУБД и ее 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920" indent="-21240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ы, индексные таблицы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ews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ексы и т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запрос для отдел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кажите фамилию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а, название от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ите Фамилию, должность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а и название отдела для всех сотрудников, работающих в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ите Фамилию, должность, название отдела, зарплату и грейд для всех сотрудников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 табл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_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ит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удника, фамилию, зарплату для всех сотрудников, кот зарабатывают выше средней зарплаты  (используйте подзапр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ECT employee_id, job_i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320" indent="-220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ECT employee_id, job_i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job_his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819000" y="181080"/>
            <a:ext cx="6934320" cy="458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4640" indent="-224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SERT INTO departments(department_i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artment_name, manager_id, location_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ALUES (70, 'Public Relations', 100, 17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employees SET department_id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employee_id = 11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8200" y="2091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24000" y="971640"/>
            <a:ext cx="8686800" cy="73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176040" y="3591000"/>
            <a:ext cx="8791920" cy="112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LETE FROM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department_name = 'Finance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8480" y="171000"/>
            <a:ext cx="7581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95120" y="1347840"/>
            <a:ext cx="8810640" cy="100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152280" y="4157640"/>
            <a:ext cx="8858520" cy="48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буйте добавить, удалить, обновить строки в таблиц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user SCOTT identified by T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NT connect, dba to SCOT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OP table x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table xx (kod number, name varchar(30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 table xx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440" y="1599840"/>
            <a:ext cx="7537320" cy="4343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831960" y="619200"/>
            <a:ext cx="728352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09480" y="2228400"/>
            <a:ext cx="81439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174600" indent="-174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EATE TABLE dept80 </a:t>
            </a:r>
            <a:r>
              <a:rPr b="1" lang="en-GB" sz="2400" spc="-1" strike="noStrike">
                <a:solidFill>
                  <a:srgbClr val="fc0000"/>
                </a:solidFill>
                <a:latin typeface="Arial"/>
              </a:rPr>
              <a:t>AS SELEC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loyee_id, last_name, salary*12 ANNSAL, hire_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OM employees  WHERE department_id = 8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480" indent="-17568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и модифицровать коло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480" indent="-17568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ть значения по умолч и ограничения цело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480" indent="-17568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op a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480" indent="-17568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OP TABLE dept8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85760" y="1181160"/>
            <a:ext cx="8772480" cy="79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870120" y="185760"/>
            <a:ext cx="6997680" cy="594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ляционные отношения между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щностя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дин-ко-Многи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дин-к-Одном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ногие-ко-Многи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зоб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- - -   --------    лап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реализовать 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o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m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743040" y="271440"/>
            <a:ext cx="8400960" cy="555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ystem Modeller (Информационная Модел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049400" y="1103400"/>
            <a:ext cx="7153200" cy="5027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1027080" y="1106640"/>
            <a:ext cx="7162920" cy="506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66400" y="838080"/>
            <a:ext cx="86770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ся учебное заведение, в котором обучаются студ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е проводится по некоторому набору учебных дисциплин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проводят преподаватели, причем каждый преподаватель обучает студентов по одной единственной дисциплине. Однако, преподавать одну и ту же дисциплину могут несколько преподавател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занятия распределены по учебным дням. Например, понедельник, вторник, среда, четверг, пятница, суббот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ждый учебный день разные занятия проводятся в одни и те же учебные часы. Например, начало занятий в 8, 10, 12, 14, 16, 18 и 20 часов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ое время  однозначно определяется сочетанием учебного дня и учебного ча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проводятся в аудиториях. В одно и то же учебное время в аудитории не может проводиться несколько занятий.  В одно и то же учебное время каждый преподаватель может проводить занятия только в одной аудитор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ть логическую модель данных, описывающую приведенную ситуацию – отразить факты проведения занятий по учебным дисциплинам преподавателями в учебные часы в аудитор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щностям и атрибутам дать произвольные им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бор атрибутов придумать самостоятельно, но не нужно придумывать слишком много атрибутов, т.к. пока задача не в них, а в построении модели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3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8480" y="123480"/>
            <a:ext cx="75819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дание 1. Учебный процесс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560" y="1599840"/>
            <a:ext cx="791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1100"/>
              </a:spcBef>
              <a:buClr>
                <a:srgbClr val="f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минар 2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280" y="142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ык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800360" y="1371600"/>
            <a:ext cx="530856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34:22Z</dcterms:created>
  <dc:creator/>
  <dc:description>This presentation contains information proprietary to Oracle Corporation</dc:description>
  <dc:language>en-US</dc:language>
  <cp:lastModifiedBy>mrivkin</cp:lastModifiedBy>
  <cp:lastPrinted>2006-02-05T23:07:35Z</cp:lastPrinted>
  <dcterms:modified xsi:type="dcterms:W3CDTF">2011-10-26T07:39:29Z</dcterms:modified>
  <cp:revision>1409</cp:revision>
  <dc:subject/>
  <dc:title>Slide 1</dc:title>
</cp:coreProperties>
</file>